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012-F815-4504-93BD-8C108C53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5B9C-DF84-463B-A99B-BB5A5E2B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6B757-147E-4EEC-A03D-93889E03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77E64-A0D3-4831-B487-61F42DDA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99FA3-617C-4632-88DF-2E9EBF02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B7538-45D2-4759-9ED9-10DF981B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B40E4-93B7-4B50-9C46-4F73C949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34B14-E4B0-4EEB-B273-AE58B280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08566-1597-4451-947E-3B707362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E91E3-F5C2-4FC0-89A1-38AAA7FA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7719F-1237-4F10-BE28-34A3B667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2BE79-6BFF-4916-A1D2-D9E0AB06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291-6C31-4C70-9279-BE134F34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B215E-8FAF-4E4C-870A-EA7EAA98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14B67-99A7-4471-A2A7-1EB817F2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68AF5-A9FB-4CCA-9258-ACF86F8C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1B935-31B0-4360-B5DC-6C516313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33A20-C1CF-44BC-962B-3A1A0AB6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DCE94-8984-48C8-8986-45B954A1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2C3A6-9580-46C5-A5EC-BBD077DE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D1B81-EDA0-4581-874D-2ACA4990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66A5B-8D74-4E17-8BAF-680B1378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093DA-7EEA-4BB4-A70F-231A45F9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8E6-A557-46EC-A9A6-2908720C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5ACE0-9DBD-42EC-9EFF-6736739A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3D44-1308-4B14-B923-AEF61BC8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6505-F01A-4BC3-A0DD-EA9E2B1B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913A-DD4E-459B-A08F-7864ACF1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0DEA-AE5B-496D-8E41-A941BDFB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DCCD-ABDE-4FAD-B380-31B8202F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B519-5EE2-444F-8A6C-C6355FC8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C784-BEFD-4BEF-917B-99894D7B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7A8-4646-493E-B131-8E867D2A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4093-A1AC-498B-BCCD-54E82390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8296-63AD-44B0-8A4C-D049A388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DA5A-A454-41DC-A96F-E2119B29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DA27-4FFC-495A-8AF0-70B9F562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6F8A-C9E9-4047-BF40-5D340A26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B6830-C4E9-42B9-9BE1-CA29DF69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C1CC-FC39-46E2-A5E6-55E85DC4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08D86-06D3-47BA-BDC1-DAC58651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783B1-D400-4658-81AB-D95C752D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1BF4D-4C82-462F-9A34-BAF50FFD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3A8-FBFA-4DC4-8C19-8FDDA185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C17EF-52E6-4991-B2FA-44E631EE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530A5-A2DD-4BA4-BEAF-9A11553B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C2F1-562D-489E-8257-953239F7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0445-03DC-47A3-A43E-7C637F63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3E91C-FEA7-49CF-8508-5165C519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FFDB0-F49E-4E22-861B-C656F4CC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26FCC-4789-412B-A484-5CBC9351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4568E-E96F-4816-985E-C41888B5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1162C-9AE1-415D-ABBF-735739A2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6FC03-E827-46BF-B80E-0C11E2D0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E65-F392-42E4-8A43-32EF7D45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5A669-2C84-43CE-B772-5C8D278D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24F8E-2285-4FCD-A141-E146A2CD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598FE-E986-4829-9F41-76C53DF0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2B67D-70D5-4208-9305-D157ABA3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3D0A5-5D70-4259-88AC-04A8A26C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BA677-5F6F-4940-AC53-DE43AEDF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B8F11-A995-4F17-B949-EAA6678E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4F114-C2CD-49DF-A532-219844C3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0E627-139F-4690-BBE5-6678B9F1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6B0B2-37E6-42D7-A245-3232BE30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ABE-C7C3-46D8-AE6B-78D784F5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66087-CE9E-4D6E-AE31-6A0B1817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879CD-87F7-4B3C-96BF-B6A5E468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1F27B-12AA-44E5-925B-105974CF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0CF15-E0BF-4BD8-B8B0-B857773B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8AA59-BEF2-4294-A684-CF74EF5D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D9C87-A131-4624-9DC0-7C92FEC9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4EF8B-7D20-4568-9568-A0A421CE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15E69-8BC4-460A-A841-D6A55E69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1386B-A80E-46CC-BB51-1F0F7D5F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1FB2-3FC9-4A1C-A378-82B35B2E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D35-3ADD-4CD4-8EE9-F27F1291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71C57-0FB9-4E74-BA0F-0229F180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E495B-CF42-4572-A423-67B17874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C968C-AAA1-498C-98A0-73994E23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79E15-34B3-4E85-9A7C-3F54F811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86C6E-BEB5-4C9E-92A5-399CF81A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474B3-9157-4B60-B93D-566C0800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6B893-93EB-468D-B3D2-7D629DB2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A9A19-C09A-4D19-A822-C296D9AD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CBC0E-ABB9-4A49-9B39-D6ACFCE8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B0CC8-18D5-4A14-8AC7-388F2DC2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409-01E4-461A-9A06-DBF6F9FE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FD498-D39B-43CD-BEF9-91EC9A98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AEF8A-7F63-4127-B904-A4FD25E4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AB635-81B5-4709-BEE3-873F6D22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629BA-96AD-4F1E-89C2-E9FF66D1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E27FE-17FA-4108-B8A4-B3445D24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B6770-F850-463F-A929-41705A51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ED480-9394-4AB6-840E-6F4D175A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63520-C584-47F4-97BB-FA43012E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DCB48-9750-4945-A248-CF9220D2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730D0-7F5A-42F3-84B6-6EDDD56E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296-66F9-4EB9-A292-31FF658C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12CD4-A6CC-4E52-B8E5-3DC2F38D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E0167-C7C6-4A07-9B27-6F2FF49D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E6AF7-A01C-4C2C-8FC4-52C0A121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94022-3BC4-4682-B756-5C5466AE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599CD-D42D-4DC7-803C-62B80D77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C99F4-2F87-4CEF-9B8F-801F84C1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C8B0F-F2A9-49FF-8F3F-7350C449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D9B1A-95E0-456B-8C74-2F21725A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4F5EB-6A7B-457D-BAF6-B18BE819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912D3-F611-44F1-BC10-17286CBE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694-5E51-4DB7-BB2E-F49D4954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2B2D5-6072-446F-ADA9-CCC23522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68978-8601-43D1-8286-B80A3D60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26D2D-9859-4F7F-A788-05805286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E1F2F-BF3F-4945-85C6-8EA1FB83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7F356-2B98-4441-ABDD-9DE7C278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768C3-7221-407A-87D3-EC18359C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B676E-73C1-4A98-B71A-969766A2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366A1-7E6C-4ABC-A551-4789269E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D3822-C743-4036-A39B-359C314B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E32C2-A17D-4242-B87C-5F121D00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FB24-9D7D-4747-A7B8-A1A3E00C3DA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977C-584C-4C0C-B668-A220CDB038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B1F4-E574-49E5-9896-2956CCEED8A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DF7D-3265-431E-AC2B-5EC444BA32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7e0b33"/>
              </a:gs>
              <a:gs pos="100000">
                <a:srgbClr val="eb829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800B-56C5-4771-BE6A-463B217F109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486400"/>
            <a:ext cx="5791320" cy="365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38EB-5479-4885-9989-518430071A6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B4C1-FF24-44D7-9B1A-CA85C7B45ED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5538-BF69-4B15-9B46-9C92349619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7e0b33"/>
              </a:gs>
              <a:gs pos="100000">
                <a:srgbClr val="eb829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9CE1-71DA-4E0B-ABC7-7147D60630E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2774-E880-4A1D-A9F8-62973D80C6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FE0B-35E1-4540-A353-058EF7D99CE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E14E-B223-450E-AAC2-BBEA313D62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75E3-FE9F-4DB4-99FF-BD56752D1B0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1667-313C-4AFE-976A-8C1E239F09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F4E6-E1DC-457B-9C02-82E1CBC52D45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EAA8-627D-4A88-8F61-C7A3A6CB3A2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E0A8-AC4F-450C-A003-3268B23FF0A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D88C-C578-4C6D-9AAD-D296440492F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84CC-122E-4CC6-A772-AEF5667B5E5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A52D-D7F8-4D0D-8D0D-9EE136B53F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1962000" y="438120"/>
            <a:ext cx="6980400" cy="1274760"/>
          </a:xfrm>
          <a:prstGeom prst="rect">
            <a:avLst/>
          </a:prstGeom>
          <a:ln w="0">
            <a:noFill/>
          </a:ln>
        </p:spPr>
      </p:pic>
      <p:pic>
        <p:nvPicPr>
          <p:cNvPr id="434" name="Footer Placeholder 4" descr=""/>
          <p:cNvPicPr/>
          <p:nvPr/>
        </p:nvPicPr>
        <p:blipFill>
          <a:blip r:embed="rId2"/>
          <a:stretch/>
        </p:blipFill>
        <p:spPr>
          <a:xfrm>
            <a:off x="2060640" y="4767120"/>
            <a:ext cx="6540480" cy="1846440"/>
          </a:xfrm>
          <a:prstGeom prst="rect">
            <a:avLst/>
          </a:prstGeom>
          <a:ln w="0">
            <a:noFill/>
          </a:ln>
        </p:spPr>
      </p:pic>
      <p:pic>
        <p:nvPicPr>
          <p:cNvPr id="435" name="Date Placeholder 5" descr=""/>
          <p:cNvPicPr/>
          <p:nvPr/>
        </p:nvPicPr>
        <p:blipFill>
          <a:blip r:embed="rId3"/>
          <a:stretch/>
        </p:blipFill>
        <p:spPr>
          <a:xfrm>
            <a:off x="2097000" y="5754600"/>
            <a:ext cx="5999400" cy="1090800"/>
          </a:xfrm>
          <a:prstGeom prst="rect">
            <a:avLst/>
          </a:prstGeom>
          <a:ln w="0">
            <a:noFill/>
          </a:ln>
        </p:spPr>
      </p:pic>
      <p:sp>
        <p:nvSpPr>
          <p:cNvPr id="436" name="Slide Number Placeholder 6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E977-D2B1-418C-BAED-BD896F5E738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4" descr="C:\Documents and Settings\hughest\Local Settings\Temporary Internet Files\Content.IE5\RZF77SXO\MPj04387960000[1].jpg"/>
          <p:cNvPicPr/>
          <p:nvPr/>
        </p:nvPicPr>
        <p:blipFill>
          <a:blip r:embed="rId4"/>
          <a:stretch/>
        </p:blipFill>
        <p:spPr>
          <a:xfrm>
            <a:off x="2736720" y="2048040"/>
            <a:ext cx="3926160" cy="3066840"/>
          </a:xfrm>
          <a:prstGeom prst="rect">
            <a:avLst/>
          </a:prstGeom>
          <a:ln w="0">
            <a:noFill/>
          </a:ln>
        </p:spPr>
      </p:pic>
      <p:pic>
        <p:nvPicPr>
          <p:cNvPr id="438" name="07a._Soundzabound_Volume_1_Disc_3_A_Little_Reggae.mp3" descr=""/>
          <p:cNvPicPr/>
          <p:nvPr/>
        </p:nvPicPr>
        <p:blipFill>
          <a:blip r:embed="rId5"/>
          <a:stretch/>
        </p:blipFill>
        <p:spPr>
          <a:xfrm>
            <a:off x="-53352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7693200" cy="11523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wish to simplify the process of using and changing copyrighted items, while working along side copy right laws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-237960" y="4565520"/>
            <a:ext cx="2457360" cy="2530440"/>
          </a:xfrm>
          <a:prstGeom prst="rect">
            <a:avLst/>
          </a:prstGeom>
          <a:ln w="0">
            <a:noFill/>
          </a:ln>
        </p:spPr>
      </p:pic>
      <p:pic>
        <p:nvPicPr>
          <p:cNvPr id="442" name="Footer Placeholder 5" descr=""/>
          <p:cNvPicPr/>
          <p:nvPr/>
        </p:nvPicPr>
        <p:blipFill>
          <a:blip r:embed="rId3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43" name="Date Placeholder 6" descr=""/>
          <p:cNvPicPr/>
          <p:nvPr/>
        </p:nvPicPr>
        <p:blipFill>
          <a:blip r:embed="rId4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44" name="Slide Number Placeholder 7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D945-44C5-4698-9A84-9F3309F5E9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146160" y="298440"/>
            <a:ext cx="8699400" cy="20732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609480" y="256032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support the copyright holder, businesses and the publ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support the current copyright law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also make it easier for people to use copyrighted material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7839000" y="5095800"/>
            <a:ext cx="1542960" cy="1695600"/>
          </a:xfrm>
          <a:prstGeom prst="rect">
            <a:avLst/>
          </a:prstGeom>
          <a:ln w="0">
            <a:noFill/>
          </a:ln>
        </p:spPr>
      </p:pic>
      <p:pic>
        <p:nvPicPr>
          <p:cNvPr id="448" name="Footer Placeholder 4" descr=""/>
          <p:cNvPicPr/>
          <p:nvPr/>
        </p:nvPicPr>
        <p:blipFill>
          <a:blip r:embed="rId3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49" name="Date Placeholder 5" descr=""/>
          <p:cNvPicPr/>
          <p:nvPr/>
        </p:nvPicPr>
        <p:blipFill>
          <a:blip r:embed="rId4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50" name="Slide Number Placeholder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1349-3BD0-4FF3-BB54-F2205F21C2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trips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69280" cy="14079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change copyright laws by using federal government court systems or making legal document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2809800" y="3724200"/>
            <a:ext cx="3067200" cy="3067200"/>
          </a:xfrm>
          <a:prstGeom prst="rect">
            <a:avLst/>
          </a:prstGeom>
          <a:ln w="0">
            <a:noFill/>
          </a:ln>
        </p:spPr>
      </p:pic>
      <p:pic>
        <p:nvPicPr>
          <p:cNvPr id="454" name="Footer Placeholder 4" descr=""/>
          <p:cNvPicPr/>
          <p:nvPr/>
        </p:nvPicPr>
        <p:blipFill>
          <a:blip r:embed="rId3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55" name="Date Placeholder 5" descr=""/>
          <p:cNvPicPr/>
          <p:nvPr/>
        </p:nvPicPr>
        <p:blipFill>
          <a:blip r:embed="rId4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56" name="Slide Number Placeholder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A44B-4BB4-412F-9CDB-72F14449EF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want to continue the balance and practice of the internet and digital technologies continue to empower the publ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9" name="Picture 3" descr=""/>
          <p:cNvPicPr/>
          <p:nvPr/>
        </p:nvPicPr>
        <p:blipFill>
          <a:blip r:embed="rId2"/>
          <a:stretch/>
        </p:blipFill>
        <p:spPr>
          <a:xfrm>
            <a:off x="2889360" y="3498840"/>
            <a:ext cx="2987640" cy="2762280"/>
          </a:xfrm>
          <a:prstGeom prst="rect">
            <a:avLst/>
          </a:prstGeom>
          <a:ln w="0">
            <a:noFill/>
          </a:ln>
        </p:spPr>
      </p:pic>
      <p:pic>
        <p:nvPicPr>
          <p:cNvPr id="460" name="Footer Placeholder 4" descr=""/>
          <p:cNvPicPr/>
          <p:nvPr/>
        </p:nvPicPr>
        <p:blipFill>
          <a:blip r:embed="rId3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61" name="Date Placeholder 5" descr=""/>
          <p:cNvPicPr/>
          <p:nvPr/>
        </p:nvPicPr>
        <p:blipFill>
          <a:blip r:embed="rId4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62" name="Slide Number Placeholder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6EE2-D0D0-4351-9FF9-847F71CE2D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For more information visit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eff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creativecommons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freeculture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futureofmusic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defectivebydesign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copyrightalliance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5" name="Footer Placeholder 3" descr=""/>
          <p:cNvPicPr/>
          <p:nvPr/>
        </p:nvPicPr>
        <p:blipFill>
          <a:blip r:embed="rId2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66" name="Date Placeholder 4" descr=""/>
          <p:cNvPicPr/>
          <p:nvPr/>
        </p:nvPicPr>
        <p:blipFill>
          <a:blip r:embed="rId3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67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0926-080C-4367-A080-654D5700C9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5:37:42Z</dcterms:created>
  <dc:creator>user</dc:creator>
  <dc:description/>
  <dc:language>en-US</dc:language>
  <cp:lastModifiedBy>user</cp:lastModifiedBy>
  <dcterms:modified xsi:type="dcterms:W3CDTF">2010-02-05T15:41:29Z</dcterms:modified>
  <cp:revision>29</cp:revision>
  <dc:subject/>
  <dc:title>Nonprofit</dc:title>
</cp:coreProperties>
</file>